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7.jpeg" ContentType="image/jpeg"/>
  <Override PartName="/ppt/media/image11.png" ContentType="image/png"/>
  <Override PartName="/ppt/media/image5.wmf" ContentType="image/x-wmf"/>
  <Override PartName="/ppt/media/image6.jpeg" ContentType="image/jpeg"/>
  <Override PartName="/ppt/media/image13.png" ContentType="image/png"/>
  <Override PartName="/ppt/media/image9.jpeg" ContentType="image/jpeg"/>
  <Override PartName="/ppt/media/image8.jpeg" ContentType="image/jpeg"/>
  <Override PartName="/ppt/media/image10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AE47-26BD-4F69-8710-CDD797BDC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D9C4-B4FA-4698-8BE6-5992DC44E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17A0-1B13-434D-A3A8-68241A6EC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3C8E-850B-4E65-B8BC-816A2FC80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6513-F0F2-4844-A4FD-794100081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4DCC-A942-4E49-822A-7355070D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33203-7B78-40E1-8F1D-DFDDD97F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9F79A-88CB-436F-A3A6-490E2002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566FC-A7A0-49DD-B160-33E4B4E0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A993F-5E54-4184-ACD1-2651B153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C3305-A0C4-45A7-A712-A41FB5A1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A5A4EF-286D-41E4-B327-664FD3DF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86669-2D87-4A98-B2E4-BD0A2BC0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A428F-DEAA-42E7-885E-B517668AD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81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00B1F-C271-4FD8-BC34-60F843ACA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25AC9A-0802-46B6-AE91-D935B6A0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80A7-402B-499C-82F4-3C0840EF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180CE-742B-4733-935F-0C11539D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CBEF0-A8D3-4617-B088-E4FE7AD8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04821-73AF-49CE-9360-FC4BC2E7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5A988E-B2DC-4603-870C-A2C07DE1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BBBC83-30DA-4DDA-890E-88EE8F99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16559-0BA6-490F-B215-C6CB0D36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E3A1F-C1E7-4FAE-8B75-9099F684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25D29-63A7-4882-8001-D0A60245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C0B70-DAB7-4B8A-BB67-09FA6563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527747-2961-4500-B8CA-D6B2425C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A4C3-7353-4468-B52D-E89550A25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06ADA-6836-4388-A6ED-37CE3FD61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19426-F1D5-42AC-A56B-5035E1524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2514C-E641-4C96-B8F9-D5D62664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2B4D6-6925-42C4-88DD-5477D5AA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BEE51-F656-41F4-8569-42A64C18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A3E9B-4397-4379-BE84-C1851349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D6C53-9F67-4805-8D67-E2A2BF40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3EE1E-B80A-4C99-BB6C-A55ACD15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DFD46-00E9-45C6-83A4-B8C32085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72E3E-91B0-4D95-AD5A-05AF9229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2D22-FCF8-4E0C-91BE-18AE76B3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025F4-9F7F-4D5F-8862-5474F4F7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216D2-53D3-4CB6-9981-3576F22E5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4EEEE-672F-4296-AA9E-71BB4BA5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632B4-8199-4C84-A3C5-17A05658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17EDE-A0B3-485D-8BAD-5A1408BC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846006-147E-48DB-8A6E-978C1D1D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FF72F7-0EF1-476D-A8EE-87FFED06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DD86D-5178-4074-AEED-4475ED43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7544A-05CB-44E7-8E65-791C4432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02200A-C74D-48EA-9B3B-55A8743A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CCCA-D1F6-49F5-B095-38897135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C899B2-35AB-4623-96D8-90FC933F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E509F0-72B9-4BC2-805F-EF2888D2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7E50A9-7B59-4316-AD9E-981328FA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7F184-FDD9-44DA-BDA7-7ADD41229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CBEEC2-C9B4-406C-8E2D-A45B77722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B5628D-547C-457E-9046-0CF4FA22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3DF8D1-8771-4E0B-8E58-D8D046D9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B76F25-CD00-46E8-B33D-FAAD31D6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F0919F-C518-49ED-AA96-145BDE2C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FFBE04-C43E-4971-9BF3-2F86428E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A97A-85A7-4DA5-BB8C-2D73EF3D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13E89E-ED00-4543-A858-33834EE9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E5C7DE-ECDD-4B26-8086-6B349F46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0641C2-E9C1-4B86-9C73-B48E2D00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506BD5-D06E-432B-BAF9-DE0071B8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071C01-5349-47FC-B7DE-841C37BE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53BEE9-1C06-4B77-AFFE-D6B7E521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72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73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C20459-ED0E-4D11-8D06-DE89AB339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B9459C-7648-4722-AF78-0E3E5C781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99C84A-A8C6-46FC-94BE-B6925FEC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2990FF-D457-4D49-BB5B-4A5EF354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BCEC-9023-4896-950D-FA25A8FF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EF50FA-DC8B-416F-B128-56B74ED9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60B33B-25A5-4EEA-B40A-F32A19FE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12A1AD-F5D2-4E41-A105-A20BAB2C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E42769-CA8E-4986-B8DF-AB31A867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AF23EF-14F0-4E46-A2FE-48CA3DA2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92D945-44A5-4560-BE7C-4C208BDA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2B4AF2-7E31-4520-87B9-50397624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5962B7-FA20-4357-A17C-26309FCE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A32983-D043-4EFF-8925-F91FCC1AE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4349C1-AA44-4EBD-8D02-4FF3001F1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04C8-7776-475C-B8BF-151C83CA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CE9512-9D48-498D-AC34-72D611AA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4D0719-2C99-4CA8-ABB2-7E723286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3AD849-3641-41A6-99B3-6ED31C80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825851-CD3A-427A-B752-C3056A38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03BF9D-FE4C-464A-AE22-2BF4D915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5BE6A6-29C2-4A63-88EA-07D04602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2C0620-7D36-42AD-B95B-189B2F5C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D7577B-3F75-4A22-B98E-8343B3AB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7F45FF-1E42-4CCF-9CC2-8533E898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87B87E-501E-4183-B651-40D9F00B7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10E5-C954-45A2-8D74-3B6B9EFC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68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69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2CA528-EBD0-461F-85A8-791CD55BC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C4F1-3D33-48D3-BEA3-C75DE9FC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1DCC-CFA0-424B-9835-6A0DFC22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1C5F-B38D-4D02-9A82-F7E6A254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79D4-B31C-4AC1-83A4-0F0FD901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7D17-B88F-4428-B199-62252B2A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EC6A-26D7-4890-8224-2FB22F6E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940A-1FA2-4E9F-9CE7-3FA0D14C4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3FE41-B60C-49D2-9F65-AB1C0177B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155BE-29D1-4689-BD84-E16C6DF5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05536-722D-4C91-9EDE-6847A49D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A1305-0971-4DD3-A4A4-69A8C8AF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D3F43-F470-4B5C-918B-86EBCC5D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2253-BEB3-4ECE-A5BF-593BDCD9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EC64E-0160-4C3E-8C32-07DC00F8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FE1A9-1828-49A0-AD8D-949E9160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778DF-2760-41FC-947C-5F23AA9C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A679E-37D6-49B9-8731-5C61949F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023AC-132A-4E3E-A64B-FB898B44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10BF8-0C47-4EF3-9C6C-C94EC82A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8DA41-1B5D-44D7-BC05-26DB76215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CD642-9C02-4455-8B10-ADB8294B8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E0430-7BC7-4EBB-BE4C-59481336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6477D-2B88-455F-AD08-28EE023D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2E6F-D7D7-48FC-BD5C-C37A2AA0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BA831-CE90-4C33-8742-0C091154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42393-38A0-45F9-8FA3-B264C161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8D0B1-DA1D-42ED-AE2C-9113D1AA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8444B-45C4-4C26-B06F-4BCDBF04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B2722-A6F8-4C91-A995-BD09A002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CE413-C226-45B1-9D63-45DF3E06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66FCD-D3CC-4880-9230-A7320AC5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C046D-C6DA-4A67-A8C8-8E0B498A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18AD2-1ED9-4373-92C3-54927EE10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AB27F-C5E0-454C-9B4F-9FC06A30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710D-B381-470C-94A7-4ADF6DD6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8F8C5-E706-4498-9614-FECF6C01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8183A-4383-43A4-BB05-38066DB4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CF460-047A-4999-8E1C-3A2D9439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4BD7D-97BE-4BEF-86CC-AA8B6AE8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68277-740B-40FB-BD51-15E6BAAF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254BA-6B34-48EB-B41E-A38E0CF9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0EB4A-0961-4B53-ABD1-B0653ED7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D5813-228C-445E-B4ED-3F1C9467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9F8CB-EED0-4121-9A20-749C2951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C0EF4-EB52-4D0B-B6CF-40DC2509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4D48-676E-4546-8F43-A1A928EB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BCBCD-386B-4CC5-8F9B-D34112789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AEEC5-036F-458A-A74B-26A740E93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58F0A-31B2-4538-96E2-CE88CB21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DA984-C121-40A5-A385-1A78D219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4CF9D-E897-451D-A43B-CBDCFCF1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80AE0-0B06-4E25-BAF1-FBBD1862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5BF36-2FBB-4083-9669-438D825B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08069-3247-4C5F-970B-5F26129D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5B04D-00A6-413C-AB36-1E3CDA66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F7365-732D-4556-B231-39951151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39F8-48ED-442A-8E43-7A9DF1CA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E30AE-4689-40C3-9CC1-C2D6F485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A922A-1E86-4FD4-9611-D45EE2942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847CD-66BC-4928-926B-1DD0E4874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46087-3D7A-49FA-9C6A-9BF35F623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4D988-E90A-4CF4-B20F-1F75CDAB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7F00C-4C10-49BE-B01C-033A4720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D3259-553B-4FC8-AA30-F743D9E5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6377B-49D2-41C8-A5FC-9FB7C815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B0CD6-53FB-4229-9A66-2508778B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48DE9-3A2A-4FA8-916A-B38D9587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6825-AB2C-42C7-8F82-FA32AEE8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1159E-D8CA-4401-A8EE-A6430E2A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52943-4E0A-4213-A110-443B7F50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56A55-7A25-4ABC-B8B7-34F9B62E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BD5BC-AA07-4724-927D-FCBD6D3B6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F9632-6FA1-474B-8F9D-227450B99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04231-AC31-4CC9-81FC-D46C9D4C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229CA-2700-432D-AC6D-AE7306E6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70B99-CF1C-497D-BC03-0E2639A4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934DF-F6B4-43CE-AA2E-CE959742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B92C0-91BB-49C5-A378-8DDB1FFE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FDE7-F59B-40FC-A944-EDFB2B64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3D765-5055-4B72-8CE8-AC6BA712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73ACB-3388-486B-9153-AE85372C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1B95D-A82B-4684-A7CB-A3D4E8AF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592FA-CC70-464D-B23D-546E69A0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EE787-281A-41AE-A839-95E60933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476E9-5244-405B-B0D8-22EB20EA1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368DA-A60F-4FBB-8BE2-5875A7FA8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2C9FB-230F-410F-8B00-54F50ADA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A2F41-8CE3-48D9-9B95-A42298B9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63BD6-1F98-4B6D-BF5E-DDB5CBCB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" Target="slide13.xml"/><Relationship Id="rId4" Type="http://schemas.openxmlformats.org/officeDocument/2006/relationships/slide" Target="slide2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302F-80AB-4BE2-AEF1-A21BDD4C99AB}" type="datetime2">
              <a:rPr b="0" lang="ro-RO" sz="1200" spc="-1" strike="noStrike">
                <a:solidFill>
                  <a:srgbClr val="4f261e"/>
                </a:solidFill>
                <a:latin typeface="Garamond"/>
              </a:rPr>
              <a:t>miercuri 29 iulie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61e"/>
                </a:solidFill>
                <a:latin typeface="Garamond"/>
              </a:rPr>
              <a:t>Prof. Lacramioara Tufes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2929-868F-4539-880A-05E9BD035149}" type="datetime12">
              <a:rPr b="0" lang="ro-RO" sz="1200" spc="-1" strike="noStrike">
                <a:solidFill>
                  <a:srgbClr val="4f261e"/>
                </a:solidFill>
                <a:latin typeface="Garamond"/>
              </a:rPr>
              <a:t>04:42 PM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2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7" name="Group 21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8" name="Line 22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23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24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25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26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27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28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29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30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31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32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33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Line 34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Line 35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Line 36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Line 37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Line 38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Line 39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Line 40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Line 41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Line 42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Line 43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" name="Group 44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31" name="Line 45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Line 46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Line 47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Line 48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Line 49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Line 50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Line 51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Line 52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Line 53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Line 54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Line 55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Line 56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Line 57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Line 58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Line 59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Line 60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Line 61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Line 62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63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ne 64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Line 65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66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67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68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69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70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71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72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73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" name="Line 74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5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Inaint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Sumar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5" action="ppaction://hlinksldjump"/>
              </a:rPr>
              <a:t>Inapoi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6" action="ppaction://hlinksldjump"/>
              </a:rPr>
              <a:t>Despr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Ies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83" name="Group 2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84" name="Group 21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885" name="Line 22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Line 23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Line 24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Line 25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Line 26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Line 27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Line 28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Line 29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Line 30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Line 31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Line 32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Line 33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Line 34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Line 35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Line 36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Line 37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Line 38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Line 39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Line 40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Line 41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Line 42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Line 43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7" name="Group 44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908" name="Line 45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Line 46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Line 47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Line 48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Line 49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Line 50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Line 51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Line 52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Line 53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Line 54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Line 55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Line 56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Line 57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Line 58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Line 59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Line 60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Line 61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Line 62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Line 63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Line 64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Line 65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Line 66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Line 67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Line 68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Line 69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Line 70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Line 71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Line 72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Line 73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7" name="Line 74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75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Inaint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Sumar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5" action="ppaction://hlinksldjump"/>
              </a:rPr>
              <a:t>Inapoi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6" action="ppaction://hlinksldjump"/>
              </a:rPr>
              <a:t>Despr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Ies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 type="dt" idx="28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 type="ftr" idx="29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E7F7-AA86-4D75-A0A3-B37387B4B0E0}" type="slidenum">
              <a:rPr b="0" lang="en-US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81" name="Group 2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982" name="Group 21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983" name="Line 22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Line 23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Line 24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Line 25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Line 26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27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28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29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30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Line 31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Line 32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Line 33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Line 34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Line 35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Line 36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Line 37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Line 38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Line 39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Line 40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Line 41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Line 42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Line 43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5" name="Group 44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1006" name="Line 45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Line 46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Line 47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Line 48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Line 49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Line 50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Line 51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Line 52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Line 53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Line 54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Line 55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Line 56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Line 57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Line 58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Line 59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Line 60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Line 61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Line 62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Line 63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Line 64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Line 65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Line 66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Line 67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Line 68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Line 69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Line 70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Line 71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Line 72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Line 73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5" name="Line 74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75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Inaint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Sumar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5" action="ppaction://hlinksldjump"/>
              </a:rPr>
              <a:t>Inapoi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6" action="ppaction://hlinksldjump"/>
              </a:rPr>
              <a:t>Despr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Ies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31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2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E18C-7AA1-433B-9041-D2DEDACE62A9}" type="slidenum">
              <a:rPr b="0" lang="en-US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9" name="Group 2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80" name="Group 21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1081" name="Line 22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Line 23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Line 24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Line 25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Line 26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Line 27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Line 28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Line 29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Line 30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Line 31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Line 32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Line 33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Line 34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Line 35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Line 36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Line 37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Line 38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Line 39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Line 40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Line 41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Line 42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Line 43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44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1104" name="Line 45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Line 46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Line 47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Line 48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Line 49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Line 50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Line 51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Line 52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Line 53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Line 54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Line 55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Line 56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Line 57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Line 58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Line 59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Line 60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Line 61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Line 62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Line 63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Line 64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Line 65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Line 66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Line 67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Line 68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Line 69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Line 70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Line 71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Line 72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Line 73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3" name="Line 74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75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Inaint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Sumar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5" action="ppaction://hlinksldjump"/>
              </a:rPr>
              <a:t>Inapoi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6" action="ppaction://hlinksldjump"/>
              </a:rPr>
              <a:t>Despr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Ies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34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35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3B14-3D7C-436B-9E59-3C8558FCFE5F}" type="slidenum">
              <a:rPr b="0" lang="en-US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77" name="Group 2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78" name="Group 21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1179" name="Line 22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Line 23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Line 24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Line 25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Line 26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Line 27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Line 28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Line 29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Line 30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Line 31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Line 32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Line 33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Line 34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Line 35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Line 36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Line 37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Line 38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Line 39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Line 40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Line 41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Line 42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Line 43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1" name="Group 44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1202" name="Line 45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Line 46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Line 47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Line 48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Line 49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Line 50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Line 51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Line 52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Line 53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Line 54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Line 55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Line 56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Line 57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Line 58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Line 59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Line 60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Line 61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Line 62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Line 63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Line 64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Line 65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66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Line 67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Line 68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Line 69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Line 70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Line 71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Line 72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Line 73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1" name="Line 74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75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Inaint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Sumar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5" action="ppaction://hlinksldjump"/>
              </a:rPr>
              <a:t>Inapoi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6" action="ppaction://hlinksldjump"/>
              </a:rPr>
              <a:t>Despr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Ies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 type="dt" idx="37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 type="ftr" idx="38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 type="sldNum" idx="39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E5C1-A860-45D7-ABEB-CF31BB4DD7CF}" type="slidenum">
              <a:rPr b="0" lang="en-US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75" name="Group 2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276" name="Group 21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1277" name="Line 22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Line 23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Line 24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Line 25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Line 26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Line 27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Line 28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Line 29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Line 30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Line 31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Line 32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Line 33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Line 34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Line 35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Line 36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Line 37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Line 38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Line 39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Line 40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Line 41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Line 42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Line 43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9" name="Group 44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1300" name="Line 45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Line 46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Line 47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Line 48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Line 49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Line 50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Line 51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Line 52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Line 53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Line 54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Line 55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Line 56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Line 57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Line 58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Line 59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Line 60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Line 61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Line 62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Line 63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Line 64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Line 65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Line 66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Line 67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Line 68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Line 69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Line 70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Line 71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Line 72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Line 73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9" name="Line 74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75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Inaint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Sumar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Inapoi  Despre  Ies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 type="dt" idx="40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 type="ftr" idx="41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 type="sldNum" idx="42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6BC5-1E3D-4AE9-8EF0-88878726FE36}" type="slidenum">
              <a:rPr b="0" lang="en-US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73" name="Group 2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374" name="Group 21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1375" name="Line 22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Line 23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Line 24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Line 25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Line 26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Line 27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Line 28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Line 29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Line 30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Line 31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Line 32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Line 33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Line 34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Line 35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Line 36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Line 37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Line 38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Line 39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Line 40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Line 41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Line 42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Line 43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7" name="Group 44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1398" name="Line 45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Line 46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Line 47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Line 48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Line 49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Line 50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Line 51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Line 52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Line 53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Line 54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Line 55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Line 56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Line 57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Line 58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Line 59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Line 60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Line 61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Line 62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Line 63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Line 64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Line 65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Line 66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Line 67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Line 68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Line 69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Line 70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Line 71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Line 72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Line 73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7" name="Line 74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Rectangle 75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Inainte  Sumar  Inapoi  Despre  Ies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 type="dt" idx="43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 type="ftr" idx="44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 type="sldNum" idx="45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DD83-A14E-427E-97F7-53CED3944E17}" type="slidenum">
              <a:rPr b="0" lang="en-US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 2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0" name="Group 29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101" name="Line 30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31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32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33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34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35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36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37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38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39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40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41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42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43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44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45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46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47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48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49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50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51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52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124" name="Line 53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54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55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56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57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58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59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60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61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62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63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64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65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66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67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68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69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70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71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72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73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74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75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76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77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78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79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80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81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Line 82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3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Inainte</a:t>
            </a:r>
            <a:r>
              <a:rPr b="1" lang="en-US" sz="1000" spc="-1" strike="noStrike">
                <a:solidFill>
                  <a:srgbClr val="e9dcb9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Sumar</a:t>
            </a:r>
            <a:r>
              <a:rPr b="1" lang="en-US" sz="1000" spc="-1" strike="noStrike">
                <a:solidFill>
                  <a:srgbClr val="e9dcb9"/>
                </a:solidFill>
                <a:latin typeface="Tahoma"/>
              </a:rPr>
              <a:t>  Inapoi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5" action="ppaction://hlinksldjump"/>
              </a:rPr>
              <a:t>Despre</a:t>
            </a:r>
            <a:r>
              <a:rPr b="1" lang="en-US" sz="1000" spc="-1" strike="noStrike">
                <a:solidFill>
                  <a:srgbClr val="e9dcb9"/>
                </a:solidFill>
                <a:latin typeface="Tahoma"/>
              </a:rPr>
              <a:t>  Ies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920A-9B35-4DB7-A184-D421DF5755A2}" type="slidenum">
              <a:rPr b="0" lang="en-US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2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98" name="Group 21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199" name="Line 22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23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24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25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26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27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28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29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30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31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32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33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34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35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36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37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38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39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40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41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42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43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44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222" name="Line 45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46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47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48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49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50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51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52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53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54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55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56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57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58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59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60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Line 61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62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63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64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65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66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67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68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69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Line 70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Line 71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72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73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Line 74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5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Inaint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Sumar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5" action="ppaction://hlinksldjump"/>
              </a:rPr>
              <a:t>Inapoi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6" action="ppaction://hlinksldjump"/>
              </a:rPr>
              <a:t>Despr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Ies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7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8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C004-A2C8-4945-9C30-D5105F1D85A2}" type="slidenum">
              <a:rPr b="0" lang="en-US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95" name="Group 2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96" name="Group 21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297" name="Line 22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23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24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25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26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27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28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29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30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31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32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33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Line 34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Line 35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36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37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38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39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Line 40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Line 41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Line 42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Line 43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Group 44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320" name="Line 45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Line 46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47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48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49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50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51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Line 52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53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54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55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Line 56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57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Line 58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59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0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61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Line 62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63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64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65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Line 66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67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68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Line 69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Line 70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71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Line 72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Line 73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9" name="Line 74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5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Inaint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Sumar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5" action="ppaction://hlinksldjump"/>
              </a:rPr>
              <a:t>Inapoi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6" action="ppaction://hlinksldjump"/>
              </a:rPr>
              <a:t>Despr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Ies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10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11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F9E7-832A-4D34-AB7F-6BAF49FCE6DD}" type="slidenum">
              <a:rPr b="0" lang="en-US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93" name="Group 2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94" name="Group 21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395" name="Line 22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Line 23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Line 24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Line 25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Line 26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27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28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Line 29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Line 30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Line 31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Line 32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Line 33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Line 34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Line 35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Line 36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Line 37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Line 38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Line 39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40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41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42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Line 43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Group 44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418" name="Line 45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Line 46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47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Line 48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Line 49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Line 50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Line 51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Line 52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Line 53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Line 54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Line 55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Line 56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Line 57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Line 58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Line 59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Line 60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Line 61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Line 62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Line 63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64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Line 65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Line 66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67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Line 68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Line 69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70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71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72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73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7" name="Line 74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75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Inaint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Sumar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5" action="ppaction://hlinksldjump"/>
              </a:rPr>
              <a:t>Inapoi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6" action="ppaction://hlinksldjump"/>
              </a:rPr>
              <a:t>Despr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Ies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13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14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6060-B2D7-4202-901D-3919A9C8953E}" type="slidenum">
              <a:rPr b="0" lang="en-US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91" name="Group 2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92" name="Group 21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493" name="Line 22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Line 23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Line 24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Line 25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Line 26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Line 27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Line 28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Line 29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Line 30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Line 31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Line 32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Line 33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Line 34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Line 35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Line 36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Line 37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38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39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Line 40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Line 41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Line 42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Line 43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" name="Group 44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516" name="Line 45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Line 46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Line 47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Line 48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Line 49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Line 50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Line 51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Line 52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53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54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Line 55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Line 56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Line 57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Line 58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Line 59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Line 60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61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62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Line 63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Line 64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Line 65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Line 66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67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Line 68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Line 69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70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Line 71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72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73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Line 74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75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Inaint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Sumar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5" action="ppaction://hlinksldjump"/>
              </a:rPr>
              <a:t>Inapoi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6" action="ppaction://hlinksldjump"/>
              </a:rPr>
              <a:t>Despr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Ies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16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17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9DFB-C0F1-49F7-BA59-643915D40954}" type="slidenum">
              <a:rPr b="0" lang="en-US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9" name="Group 2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0" name="Group 21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591" name="Line 22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Line 23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Line 24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Line 25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Line 26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27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Line 28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Line 29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30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31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Line 32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Line 33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34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Line 35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Line 36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37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Line 38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Line 39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Line 40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Line 41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Line 42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Line 43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Group 44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614" name="Line 45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Line 46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Line 47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Line 48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Line 49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Line 50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Line 51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Line 52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Line 53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Line 54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55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56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57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Line 58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Line 59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Line 60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Line 61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Line 62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Line 63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64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65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66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67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Line 68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Line 69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70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71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72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73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3" name="Line 74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5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Inaint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Sumar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5" action="ppaction://hlinksldjump"/>
              </a:rPr>
              <a:t>Inapoi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6" action="ppaction://hlinksldjump"/>
              </a:rPr>
              <a:t>Despr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Ies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19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20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3F7F-6FF9-4C36-A77C-DB860FD5D9D9}" type="slidenum">
              <a:rPr b="0" lang="en-US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87" name="Group 2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88" name="Group 21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689" name="Line 22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Line 23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Line 24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Line 25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Line 26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Line 27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Line 28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Line 29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Line 30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Line 31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Line 32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Line 33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Line 34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Line 35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Line 36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37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Line 38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Line 39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Line 40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Line 41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Line 42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Line 43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1" name="Group 44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712" name="Line 45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Line 46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Line 47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Line 48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Line 49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Line 50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Line 51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Line 52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Line 53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Line 54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Line 55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Line 56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Line 57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Line 58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Line 59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Line 60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Line 61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62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Line 63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Line 64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65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Line 66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Line 67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Line 68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Line 69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70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71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Line 72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Line 73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1" name="Line 74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75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Inaint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Sumar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5" action="ppaction://hlinksldjump"/>
              </a:rPr>
              <a:t>Inapoi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6" action="ppaction://hlinksldjump"/>
              </a:rPr>
              <a:t>Despr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Ies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22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23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5CAA-F1B2-4662-9F54-67BFA54D84A0}" type="slidenum">
              <a:rPr b="0" lang="en-US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85" name="Group 2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786" name="Group 21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787" name="Line 22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Line 23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Line 24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Line 25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Line 26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Line 27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Line 28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Line 29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Line 30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Line 31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Line 32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Line 33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Line 34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Line 35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Line 36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Line 37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Line 38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Line 39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Line 40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Line 41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Line 42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Line 43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9" name="Group 44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810" name="Line 45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Line 46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Line 47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Line 48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Line 49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Line 50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Line 51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Line 52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Line 53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Line 54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Line 55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56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57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58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Line 59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Line 60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Line 61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Line 62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Line 63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Line 64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Line 65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66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Line 67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Line 68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Line 69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Line 70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Line 71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Line 72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73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e9dc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9" name="Line 74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75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Inaint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Sumar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5" action="ppaction://hlinksldjump"/>
              </a:rPr>
              <a:t>Inapoi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</a:t>
            </a: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6" action="ppaction://hlinksldjump"/>
              </a:rPr>
              <a:t>Despre</a:t>
            </a:r>
            <a:r>
              <a:rPr b="1" lang="en-US" sz="1000" spc="-1" strike="noStrike">
                <a:solidFill>
                  <a:srgbClr val="54491e"/>
                </a:solidFill>
                <a:latin typeface="Tahoma"/>
              </a:rPr>
              <a:t>  Ies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 type="dt" idx="25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 type="ftr" idx="26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2E64-E67A-4041-B7FC-A06FB7B835AB}" type="slidenum">
              <a:rPr b="0" lang="en-US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57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7" name="Picture 5" descr="Picture1.png"/>
          <p:cNvPicPr/>
          <p:nvPr/>
        </p:nvPicPr>
        <p:blipFill>
          <a:blip r:embed="rId1"/>
          <a:stretch/>
        </p:blipFill>
        <p:spPr>
          <a:xfrm>
            <a:off x="1828800" y="4343400"/>
            <a:ext cx="4857840" cy="669960"/>
          </a:xfrm>
          <a:prstGeom prst="rect">
            <a:avLst/>
          </a:prstGeom>
          <a:ln w="0">
            <a:noFill/>
          </a:ln>
        </p:spPr>
      </p:pic>
      <p:pic>
        <p:nvPicPr>
          <p:cNvPr id="1478" name="Rectangle 6" descr=""/>
          <p:cNvPicPr/>
          <p:nvPr/>
        </p:nvPicPr>
        <p:blipFill>
          <a:blip r:embed="rId2"/>
          <a:stretch/>
        </p:blipFill>
        <p:spPr>
          <a:xfrm>
            <a:off x="2414520" y="1432080"/>
            <a:ext cx="5327640" cy="210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4f261e"/>
                </a:solidFill>
                <a:latin typeface="Black Chancery"/>
              </a:rPr>
              <a:t>Editorul de text</a:t>
            </a:r>
            <a:r>
              <a:rPr b="0" lang="ro-RO" sz="4800" spc="-1" strike="noStrike">
                <a:solidFill>
                  <a:srgbClr val="4f261e"/>
                </a:solidFill>
                <a:latin typeface="Black Chancery"/>
              </a:rPr>
              <a:t> </a:t>
            </a:r>
            <a:br>
              <a:rPr sz="4800"/>
            </a:br>
            <a:r>
              <a:rPr b="0" lang="ro-RO" sz="4800" spc="-1" strike="noStrike">
                <a:solidFill>
                  <a:srgbClr val="4f261e"/>
                </a:solidFill>
                <a:latin typeface="Black Chancery"/>
              </a:rPr>
              <a:t>                 Microsoft Word</a:t>
            </a:r>
            <a:endParaRPr b="0" lang="en-US" sz="48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1828800" y="1600200"/>
            <a:ext cx="4572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f261e"/>
              </a:buClr>
              <a:buFont typeface="Web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4f261e"/>
                </a:solidFill>
                <a:latin typeface="Times New Roman"/>
              </a:rPr>
              <a:t>Lansarea aplicaţiei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f261e"/>
              </a:buClr>
              <a:buFont typeface="Web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4f261e"/>
                </a:solidFill>
                <a:latin typeface="Times New Roman"/>
              </a:rPr>
              <a:t>Elementele interfeţei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f261e"/>
              </a:buClr>
              <a:buFont typeface="Web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4f261e"/>
                </a:solidFill>
                <a:latin typeface="Times New Roman"/>
              </a:rPr>
              <a:t>Deplasarea</a:t>
            </a:r>
            <a:r>
              <a:rPr b="0" lang="en-US" sz="2800" spc="-1" strike="noStrike">
                <a:solidFill>
                  <a:srgbClr val="4f261e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f261e"/>
                </a:solidFill>
                <a:latin typeface="Times New Roman"/>
                <a:ea typeface="Times New Roman"/>
              </a:rPr>
              <a:t>ş</a:t>
            </a:r>
            <a:r>
              <a:rPr b="0" lang="en-US" sz="2800" spc="-1" strike="noStrike">
                <a:solidFill>
                  <a:srgbClr val="4f261e"/>
                </a:solidFill>
                <a:latin typeface="Times New Roman"/>
              </a:rPr>
              <a:t>i</a:t>
            </a:r>
            <a:r>
              <a:rPr b="0" lang="ro-RO" sz="2800" spc="-1" strike="noStrike">
                <a:solidFill>
                  <a:srgbClr val="4f261e"/>
                </a:solidFill>
                <a:latin typeface="Times New Roman"/>
              </a:rPr>
              <a:t> salvarea 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Web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Deschiderea unui document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1481" name="Picture 18" descr="BD00028_"/>
          <p:cNvPicPr/>
          <p:nvPr/>
        </p:nvPicPr>
        <p:blipFill>
          <a:blip r:embed="rId1"/>
          <a:stretch/>
        </p:blipFill>
        <p:spPr>
          <a:xfrm>
            <a:off x="7315200" y="3429000"/>
            <a:ext cx="861840" cy="844560"/>
          </a:xfrm>
          <a:prstGeom prst="rect">
            <a:avLst/>
          </a:prstGeom>
          <a:ln w="0">
            <a:noFill/>
          </a:ln>
        </p:spPr>
      </p:pic>
      <p:sp>
        <p:nvSpPr>
          <p:cNvPr id="1482" name="Text Box 6"/>
          <p:cNvSpPr/>
          <p:nvPr/>
        </p:nvSpPr>
        <p:spPr>
          <a:xfrm>
            <a:off x="7924680" y="5791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3366"/>
                </a:solidFill>
                <a:latin typeface="Times New Roman"/>
              </a:rPr>
              <a:t>@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Line 7"/>
          <p:cNvSpPr/>
          <p:nvPr/>
        </p:nvSpPr>
        <p:spPr>
          <a:xfrm>
            <a:off x="3352680" y="640080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Line 8"/>
          <p:cNvSpPr/>
          <p:nvPr/>
        </p:nvSpPr>
        <p:spPr>
          <a:xfrm>
            <a:off x="5867280" y="44956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851040" y="315720"/>
            <a:ext cx="8292960" cy="12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4f261e"/>
                </a:solidFill>
                <a:latin typeface="Allegro BT"/>
              </a:rPr>
              <a:t>Lansarea aplicaţiei şi închiderea</a:t>
            </a:r>
            <a:endParaRPr b="0" lang="en-US" sz="48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1346040" y="1600200"/>
            <a:ext cx="383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8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ro-RO" sz="2000" spc="-1" strike="noStrike">
                <a:solidFill>
                  <a:srgbClr val="4f261e"/>
                </a:solidFill>
                <a:latin typeface="Times New Roman"/>
              </a:rPr>
              <a:t>Lansarea</a:t>
            </a:r>
            <a:r>
              <a:rPr b="0" lang="ro-RO" sz="2000" spc="-1" strike="noStrike">
                <a:solidFill>
                  <a:srgbClr val="4f261e"/>
                </a:solidFill>
                <a:latin typeface="Times New Roman"/>
              </a:rPr>
              <a:t> aplicaţiei se face: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lvl="1" marL="228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ro-RO" sz="2000" spc="-1" strike="noStrike">
                <a:solidFill>
                  <a:srgbClr val="4f261e"/>
                </a:solidFill>
                <a:latin typeface="Times New Roman"/>
              </a:rPr>
              <a:t>1. clic pe butonul </a:t>
            </a:r>
            <a:r>
              <a:rPr b="1" lang="ro-RO" sz="2000" spc="-1" strike="noStrike">
                <a:solidFill>
                  <a:srgbClr val="909082"/>
                </a:solidFill>
                <a:latin typeface="Times New Roman"/>
              </a:rPr>
              <a:t>START</a:t>
            </a:r>
            <a:r>
              <a:rPr b="0" lang="ro-RO" sz="2000" spc="-1" strike="noStrike">
                <a:solidFill>
                  <a:srgbClr val="4f261e"/>
                </a:solidFill>
                <a:latin typeface="Times New Roman"/>
              </a:rPr>
              <a:t>, clic pe </a:t>
            </a:r>
            <a:r>
              <a:rPr b="0" lang="en-US" sz="2000" spc="-1" strike="noStrike">
                <a:solidFill>
                  <a:srgbClr val="909082"/>
                </a:solidFill>
                <a:latin typeface="Times New Roman"/>
              </a:rPr>
              <a:t>All</a:t>
            </a:r>
            <a:r>
              <a:rPr b="0" lang="en-US" sz="2000" spc="-1" strike="noStrike">
                <a:solidFill>
                  <a:srgbClr val="4f261e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909082"/>
                </a:solidFill>
                <a:latin typeface="Times New Roman"/>
              </a:rPr>
              <a:t>Programs</a:t>
            </a:r>
            <a:r>
              <a:rPr b="0" lang="ro-RO" sz="2000" spc="-1" strike="noStrike">
                <a:solidFill>
                  <a:srgbClr val="4f261e"/>
                </a:solidFill>
                <a:latin typeface="Times New Roman"/>
              </a:rPr>
              <a:t> clic pe </a:t>
            </a:r>
            <a:r>
              <a:rPr b="1" lang="ro-RO" sz="2000" spc="-1" strike="noStrike">
                <a:solidFill>
                  <a:srgbClr val="909082"/>
                </a:solidFill>
                <a:latin typeface="Times New Roman"/>
              </a:rPr>
              <a:t>Microsoft</a:t>
            </a:r>
            <a:r>
              <a:rPr b="1" lang="ro-RO" sz="2000" spc="-1" strike="noStrike">
                <a:solidFill>
                  <a:srgbClr val="4f261e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909082"/>
                </a:solidFill>
                <a:latin typeface="Times New Roman"/>
              </a:rPr>
              <a:t>Word</a:t>
            </a:r>
            <a:r>
              <a:rPr b="1" lang="ro-RO" sz="2000" spc="-1" strike="noStrike">
                <a:solidFill>
                  <a:srgbClr val="4f261e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4f261e"/>
                </a:solidFill>
                <a:latin typeface="Times New Roman"/>
              </a:rPr>
              <a:t>  sau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lvl="1" marL="228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ro-RO" sz="2000" spc="-1" strike="noStrike">
                <a:solidFill>
                  <a:srgbClr val="4f261e"/>
                </a:solidFill>
                <a:latin typeface="Times New Roman"/>
              </a:rPr>
              <a:t>2. clic pe butonul       din bara de aplicaţii sau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lvl="1" marL="228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ro-RO" sz="2000" spc="-1" strike="noStrike">
                <a:solidFill>
                  <a:srgbClr val="4f261e"/>
                </a:solidFill>
                <a:latin typeface="Times New Roman"/>
              </a:rPr>
              <a:t>3. dublu clic pe scurtătură</a:t>
            </a:r>
            <a:r>
              <a:rPr b="1" lang="ro-RO" sz="2000" spc="-1" strike="noStrike">
                <a:solidFill>
                  <a:srgbClr val="4f261e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lvl="1" marL="228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ro-RO" sz="2000" spc="-1" strike="noStrike">
                <a:solidFill>
                  <a:srgbClr val="4f261e"/>
                </a:solidFill>
                <a:latin typeface="Times New Roman"/>
              </a:rPr>
              <a:t>Închiderea </a:t>
            </a:r>
            <a:r>
              <a:rPr b="0" lang="ro-RO" sz="2000" spc="-1" strike="noStrike">
                <a:solidFill>
                  <a:srgbClr val="4f261e"/>
                </a:solidFill>
                <a:latin typeface="Times New Roman"/>
              </a:rPr>
              <a:t> se face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lvl="1" marL="228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ro-RO" sz="2000" spc="-1" strike="noStrike">
                <a:solidFill>
                  <a:srgbClr val="4f261e"/>
                </a:solidFill>
                <a:latin typeface="Times New Roman"/>
              </a:rPr>
              <a:t>- cu butonul </a:t>
            </a:r>
            <a:r>
              <a:rPr b="1" lang="ro-RO" sz="2000" spc="-1" strike="noStrike">
                <a:solidFill>
                  <a:srgbClr val="909082"/>
                </a:solidFill>
                <a:latin typeface="Times New Roman"/>
              </a:rPr>
              <a:t>Close</a:t>
            </a:r>
            <a:r>
              <a:rPr b="1" lang="en-US" sz="2000" spc="-1" strike="noStrike">
                <a:solidFill>
                  <a:srgbClr val="909082"/>
                </a:solidFill>
                <a:latin typeface="Times New Roman"/>
              </a:rPr>
              <a:t>             </a:t>
            </a:r>
            <a:r>
              <a:rPr b="0" lang="ro-RO" sz="2000" spc="-1" strike="noStrike">
                <a:solidFill>
                  <a:srgbClr val="4f261e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4f261e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4f261e"/>
                </a:solidFill>
                <a:latin typeface="Times New Roman"/>
              </a:rPr>
              <a:t>sau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lvl="1" marL="228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ro-RO" sz="2000" spc="-1" strike="noStrike">
                <a:solidFill>
                  <a:srgbClr val="4f261e"/>
                </a:solidFill>
                <a:latin typeface="Times New Roman"/>
              </a:rPr>
              <a:t>- cu tastele </a:t>
            </a:r>
            <a:r>
              <a:rPr b="1" lang="ro-RO" sz="2000" spc="-1" strike="noStrike">
                <a:solidFill>
                  <a:srgbClr val="909082"/>
                </a:solidFill>
                <a:latin typeface="Times New Roman"/>
              </a:rPr>
              <a:t>Alt </a:t>
            </a:r>
            <a:r>
              <a:rPr b="0" lang="ro-RO" sz="2000" spc="-1" strike="noStrike">
                <a:solidFill>
                  <a:srgbClr val="909082"/>
                </a:solidFill>
                <a:latin typeface="Times New Roman"/>
              </a:rPr>
              <a:t>+ </a:t>
            </a:r>
            <a:r>
              <a:rPr b="1" lang="ro-RO" sz="2000" spc="-1" strike="noStrike">
                <a:solidFill>
                  <a:srgbClr val="909082"/>
                </a:solidFill>
                <a:latin typeface="Times New Roman"/>
              </a:rPr>
              <a:t>F4</a:t>
            </a:r>
            <a:r>
              <a:rPr b="0" lang="ro-RO" sz="2000" spc="-1" strike="noStrike">
                <a:solidFill>
                  <a:srgbClr val="4f261e"/>
                </a:solidFill>
                <a:latin typeface="Times New Roman"/>
              </a:rPr>
              <a:t>, sau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lvl="1" marL="228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ro-RO" sz="2000" spc="-1" strike="noStrike">
                <a:solidFill>
                  <a:srgbClr val="4f261e"/>
                </a:solidFill>
                <a:latin typeface="Times New Roman"/>
              </a:rPr>
              <a:t>- din meniul </a:t>
            </a:r>
            <a:r>
              <a:rPr b="1" lang="ro-RO" sz="2000" spc="-1" strike="noStrike">
                <a:solidFill>
                  <a:srgbClr val="909082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909082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909082"/>
                </a:solidFill>
                <a:latin typeface="Times New Roman"/>
                <a:ea typeface="Times New Roman"/>
              </a:rPr>
              <a:t>ş</a:t>
            </a:r>
            <a:r>
              <a:rPr b="1" lang="en-US" sz="2000" spc="-1" strike="noStrike">
                <a:solidFill>
                  <a:srgbClr val="909082"/>
                </a:solidFill>
                <a:latin typeface="Times New Roman"/>
              </a:rPr>
              <a:t>ier</a:t>
            </a:r>
            <a:r>
              <a:rPr b="0" lang="ro-RO" sz="2000" spc="-1" strike="noStrike">
                <a:solidFill>
                  <a:srgbClr val="4f261e"/>
                </a:solidFill>
                <a:latin typeface="Times New Roman"/>
              </a:rPr>
              <a:t> se alege comanda </a:t>
            </a:r>
            <a:r>
              <a:rPr b="1" lang="en-US" sz="2000" spc="-1" strike="noStrike">
                <a:solidFill>
                  <a:srgbClr val="909082"/>
                </a:solidFill>
                <a:latin typeface="Times New Roman"/>
              </a:rPr>
              <a:t>Ie</a:t>
            </a:r>
            <a:r>
              <a:rPr b="1" lang="en-US" sz="2000" spc="-1" strike="noStrike">
                <a:solidFill>
                  <a:srgbClr val="909082"/>
                </a:solidFill>
                <a:latin typeface="Times New Roman"/>
                <a:ea typeface="Times New Roman"/>
              </a:rPr>
              <a:t>ş</a:t>
            </a:r>
            <a:r>
              <a:rPr b="1" lang="en-US" sz="2000" spc="-1" strike="noStrike">
                <a:solidFill>
                  <a:srgbClr val="909082"/>
                </a:solidFill>
                <a:latin typeface="Times New Roman"/>
              </a:rPr>
              <a:t>ire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lvl="1" marL="228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lvl="1" marL="228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1487" name="Picture 12" descr="word"/>
          <p:cNvPicPr/>
          <p:nvPr/>
        </p:nvPicPr>
        <p:blipFill>
          <a:blip r:embed="rId1"/>
          <a:stretch/>
        </p:blipFill>
        <p:spPr>
          <a:xfrm>
            <a:off x="7315200" y="2514600"/>
            <a:ext cx="1123920" cy="1981080"/>
          </a:xfrm>
          <a:prstGeom prst="rect">
            <a:avLst/>
          </a:prstGeom>
          <a:ln w="0">
            <a:noFill/>
          </a:ln>
        </p:spPr>
      </p:pic>
      <p:pic>
        <p:nvPicPr>
          <p:cNvPr id="1488" name="Picture 14" descr="wordbun"/>
          <p:cNvPicPr/>
          <p:nvPr/>
        </p:nvPicPr>
        <p:blipFill>
          <a:blip r:embed="rId2"/>
          <a:stretch/>
        </p:blipFill>
        <p:spPr>
          <a:xfrm>
            <a:off x="3454560" y="2806560"/>
            <a:ext cx="461880" cy="481320"/>
          </a:xfrm>
          <a:prstGeom prst="rect">
            <a:avLst/>
          </a:prstGeom>
          <a:ln w="0">
            <a:noFill/>
          </a:ln>
        </p:spPr>
      </p:pic>
      <p:sp>
        <p:nvSpPr>
          <p:cNvPr id="1489" name="Line 9"/>
          <p:cNvSpPr/>
          <p:nvPr/>
        </p:nvSpPr>
        <p:spPr>
          <a:xfrm>
            <a:off x="4863960" y="2590920"/>
            <a:ext cx="2438640" cy="11430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10"/>
          <p:cNvSpPr/>
          <p:nvPr/>
        </p:nvSpPr>
        <p:spPr>
          <a:xfrm>
            <a:off x="914400" y="624852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Line 11"/>
          <p:cNvSpPr/>
          <p:nvPr/>
        </p:nvSpPr>
        <p:spPr>
          <a:xfrm>
            <a:off x="1371600" y="5791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2" name="Picture 16" descr="sortword"/>
          <p:cNvPicPr/>
          <p:nvPr/>
        </p:nvPicPr>
        <p:blipFill>
          <a:blip r:embed="rId3"/>
          <a:stretch/>
        </p:blipFill>
        <p:spPr>
          <a:xfrm>
            <a:off x="4419720" y="3429000"/>
            <a:ext cx="533160" cy="463680"/>
          </a:xfrm>
          <a:prstGeom prst="rect">
            <a:avLst/>
          </a:prstGeom>
          <a:ln w="0">
            <a:noFill/>
          </a:ln>
        </p:spPr>
      </p:pic>
      <p:pic>
        <p:nvPicPr>
          <p:cNvPr id="1493" name="Picture 17" descr="stop"/>
          <p:cNvPicPr/>
          <p:nvPr/>
        </p:nvPicPr>
        <p:blipFill>
          <a:blip r:embed="rId4"/>
          <a:stretch/>
        </p:blipFill>
        <p:spPr>
          <a:xfrm>
            <a:off x="3800520" y="4127400"/>
            <a:ext cx="27612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4" name="Picture 5" descr="wordtot"/>
          <p:cNvPicPr/>
          <p:nvPr/>
        </p:nvPicPr>
        <p:blipFill>
          <a:blip r:embed="rId1"/>
          <a:stretch/>
        </p:blipFill>
        <p:spPr>
          <a:xfrm>
            <a:off x="1828800" y="1371600"/>
            <a:ext cx="6400800" cy="4908600"/>
          </a:xfrm>
          <a:prstGeom prst="rect">
            <a:avLst/>
          </a:prstGeom>
          <a:ln w="0">
            <a:noFill/>
          </a:ln>
        </p:spPr>
      </p:pic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4f261e"/>
                </a:solidFill>
                <a:latin typeface="Allegro BT"/>
              </a:rPr>
              <a:t>Elementele interfeţei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496" name="Rectangle 7"/>
          <p:cNvSpPr/>
          <p:nvPr/>
        </p:nvSpPr>
        <p:spPr>
          <a:xfrm>
            <a:off x="3657600" y="6858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bara de titl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8"/>
          <p:cNvSpPr/>
          <p:nvPr/>
        </p:nvSpPr>
        <p:spPr>
          <a:xfrm flipV="1" rot="10800000">
            <a:off x="5486400" y="71496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buton de restaur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Rectangle 9"/>
          <p:cNvSpPr/>
          <p:nvPr/>
        </p:nvSpPr>
        <p:spPr>
          <a:xfrm>
            <a:off x="8229600" y="68580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buton de închid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Rectangle 11"/>
          <p:cNvSpPr/>
          <p:nvPr/>
        </p:nvSpPr>
        <p:spPr>
          <a:xfrm>
            <a:off x="914400" y="6858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bara de meniu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Rectangle 12"/>
          <p:cNvSpPr/>
          <p:nvPr/>
        </p:nvSpPr>
        <p:spPr>
          <a:xfrm>
            <a:off x="1828800" y="2514600"/>
            <a:ext cx="145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bara de instru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Rectangle 13"/>
          <p:cNvSpPr/>
          <p:nvPr/>
        </p:nvSpPr>
        <p:spPr>
          <a:xfrm>
            <a:off x="7285320" y="4278240"/>
            <a:ext cx="157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ba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 de derul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Rectangle 14"/>
          <p:cNvSpPr/>
          <p:nvPr/>
        </p:nvSpPr>
        <p:spPr>
          <a:xfrm>
            <a:off x="3621960" y="3429000"/>
            <a:ext cx="146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spaţiul de luc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Rectangle 15"/>
          <p:cNvSpPr/>
          <p:nvPr/>
        </p:nvSpPr>
        <p:spPr>
          <a:xfrm>
            <a:off x="1115640" y="4876920"/>
            <a:ext cx="129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bare de st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Line 16"/>
          <p:cNvSpPr/>
          <p:nvPr/>
        </p:nvSpPr>
        <p:spPr>
          <a:xfrm>
            <a:off x="1828800" y="5257800"/>
            <a:ext cx="914400" cy="73188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Line 19"/>
          <p:cNvSpPr/>
          <p:nvPr/>
        </p:nvSpPr>
        <p:spPr>
          <a:xfrm flipV="1">
            <a:off x="2900880" y="1776240"/>
            <a:ext cx="1267560" cy="10832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Line 20"/>
          <p:cNvSpPr/>
          <p:nvPr/>
        </p:nvSpPr>
        <p:spPr>
          <a:xfrm>
            <a:off x="1721520" y="857160"/>
            <a:ext cx="854280" cy="7178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Line 22"/>
          <p:cNvSpPr/>
          <p:nvPr/>
        </p:nvSpPr>
        <p:spPr>
          <a:xfrm flipH="1">
            <a:off x="3522600" y="792000"/>
            <a:ext cx="388800" cy="64656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Line 27"/>
          <p:cNvSpPr/>
          <p:nvPr/>
        </p:nvSpPr>
        <p:spPr>
          <a:xfrm flipH="1">
            <a:off x="5258880" y="4650840"/>
            <a:ext cx="2283840" cy="121392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Line 28"/>
          <p:cNvSpPr/>
          <p:nvPr/>
        </p:nvSpPr>
        <p:spPr>
          <a:xfrm flipH="1" flipV="1">
            <a:off x="6859440" y="3561480"/>
            <a:ext cx="775800" cy="7758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Freeform 30"/>
          <p:cNvSpPr/>
          <p:nvPr/>
        </p:nvSpPr>
        <p:spPr>
          <a:xfrm>
            <a:off x="8166240" y="1244520"/>
            <a:ext cx="952200" cy="216000"/>
          </a:xfrm>
          <a:prstGeom prst="pie">
            <a:avLst/>
          </a:prstGeom>
          <a:noFill/>
          <a:ln cap="sq"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Freeform 31"/>
          <p:cNvSpPr/>
          <p:nvPr/>
        </p:nvSpPr>
        <p:spPr>
          <a:xfrm>
            <a:off x="8039160" y="1511280"/>
            <a:ext cx="546120" cy="711360"/>
          </a:xfrm>
          <a:prstGeom prst="pie">
            <a:avLst/>
          </a:prstGeom>
          <a:noFill/>
          <a:ln cap="sq"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Freeform 32"/>
          <p:cNvSpPr/>
          <p:nvPr/>
        </p:nvSpPr>
        <p:spPr>
          <a:xfrm>
            <a:off x="7023240" y="1003320"/>
            <a:ext cx="787320" cy="469800"/>
          </a:xfrm>
          <a:prstGeom prst="pie">
            <a:avLst/>
          </a:prstGeom>
          <a:noFill/>
          <a:ln cap="sq"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Rectangle 10"/>
          <p:cNvSpPr/>
          <p:nvPr/>
        </p:nvSpPr>
        <p:spPr>
          <a:xfrm>
            <a:off x="8039160" y="2273400"/>
            <a:ext cx="104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ahoma"/>
              </a:rPr>
              <a:t>buton de minimiz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3657600" y="68580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4f261e"/>
                </a:solidFill>
                <a:latin typeface="Allegro BT"/>
              </a:rPr>
              <a:t>Deplasarea şi salvarea</a:t>
            </a:r>
            <a:endParaRPr b="0" lang="en-US" sz="36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1155600" y="311112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4f261e"/>
                </a:solidFill>
                <a:latin typeface="Times New Roman"/>
              </a:rPr>
              <a:t>Salvarea</a:t>
            </a:r>
            <a:r>
              <a:rPr b="0" lang="ro-RO" sz="1800" spc="-1" strike="noStrike">
                <a:solidFill>
                  <a:srgbClr val="4f261e"/>
                </a:solidFill>
                <a:latin typeface="Times New Roman"/>
              </a:rPr>
              <a:t> unui document nou  se poate face: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4f261e"/>
                </a:solidFill>
                <a:latin typeface="Times New Roman"/>
              </a:rPr>
              <a:t> </a:t>
            </a:r>
            <a:r>
              <a:rPr b="0" lang="ro-RO" sz="1800" spc="-1" strike="noStrike">
                <a:solidFill>
                  <a:srgbClr val="4f261e"/>
                </a:solidFill>
                <a:latin typeface="Times New Roman"/>
              </a:rPr>
              <a:t>- din meniul </a:t>
            </a:r>
            <a:r>
              <a:rPr b="1" lang="ro-RO" sz="1800" spc="-1" strike="noStrike">
                <a:solidFill>
                  <a:srgbClr val="909082"/>
                </a:solidFill>
                <a:latin typeface="Times New Roman"/>
              </a:rPr>
              <a:t>Fi</a:t>
            </a:r>
            <a:r>
              <a:rPr b="1" lang="en-US" sz="1800" spc="-1" strike="noStrike">
                <a:solidFill>
                  <a:srgbClr val="909082"/>
                </a:solidFill>
                <a:latin typeface="Times New Roman"/>
                <a:ea typeface="Times New Roman"/>
              </a:rPr>
              <a:t>ş</a:t>
            </a:r>
            <a:r>
              <a:rPr b="1" lang="en-US" sz="1800" spc="-1" strike="noStrike">
                <a:solidFill>
                  <a:srgbClr val="909082"/>
                </a:solidFill>
                <a:latin typeface="Times New Roman"/>
              </a:rPr>
              <a:t>ier</a:t>
            </a:r>
            <a:r>
              <a:rPr b="0" lang="ro-RO" sz="1800" spc="-1" strike="noStrike">
                <a:solidFill>
                  <a:srgbClr val="4f261e"/>
                </a:solidFill>
                <a:latin typeface="Times New Roman"/>
              </a:rPr>
              <a:t> se alege comanda </a:t>
            </a:r>
            <a:r>
              <a:rPr b="1" lang="ro-RO" sz="1800" spc="-1" strike="noStrike">
                <a:solidFill>
                  <a:srgbClr val="909082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909082"/>
                </a:solidFill>
                <a:latin typeface="Times New Roman"/>
              </a:rPr>
              <a:t>alvare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61e"/>
                </a:solidFill>
                <a:latin typeface="Times New Roman"/>
              </a:rPr>
              <a:t>   </a:t>
            </a:r>
            <a:r>
              <a:rPr b="0" lang="ro-RO" sz="1800" spc="-1" strike="noStrike">
                <a:solidFill>
                  <a:srgbClr val="4f261e"/>
                </a:solidFill>
                <a:latin typeface="Times New Roman"/>
              </a:rPr>
              <a:t> </a:t>
            </a:r>
            <a:r>
              <a:rPr b="0" lang="ro-RO" sz="1800" spc="-1" strike="noStrike">
                <a:solidFill>
                  <a:srgbClr val="4f261e"/>
                </a:solidFill>
                <a:latin typeface="Times New Roman"/>
              </a:rPr>
              <a:t>sau </a:t>
            </a:r>
            <a:r>
              <a:rPr b="1" lang="en-US" sz="1800" spc="-1" strike="noStrike">
                <a:solidFill>
                  <a:srgbClr val="909082"/>
                </a:solidFill>
                <a:latin typeface="Times New Roman"/>
              </a:rPr>
              <a:t>Salvare Ca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4f261e"/>
                </a:solidFill>
                <a:latin typeface="Times New Roman"/>
              </a:rPr>
              <a:t> </a:t>
            </a:r>
            <a:r>
              <a:rPr b="0" lang="ro-RO" sz="1800" spc="-1" strike="noStrike">
                <a:solidFill>
                  <a:srgbClr val="4f261e"/>
                </a:solidFill>
                <a:latin typeface="Times New Roman"/>
              </a:rPr>
              <a:t>- sau se apasă butonul </a:t>
            </a:r>
            <a:r>
              <a:rPr b="1" lang="ro-RO" sz="1800" spc="-1" strike="noStrike">
                <a:solidFill>
                  <a:srgbClr val="909082"/>
                </a:solidFill>
                <a:latin typeface="Times New Roman"/>
              </a:rPr>
              <a:t>Sa</a:t>
            </a:r>
            <a:r>
              <a:rPr b="1" lang="en-US" sz="1800" spc="-1" strike="noStrike">
                <a:solidFill>
                  <a:srgbClr val="909082"/>
                </a:solidFill>
                <a:latin typeface="Times New Roman"/>
              </a:rPr>
              <a:t>lvare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4f261e"/>
                </a:solidFill>
                <a:latin typeface="Times New Roman"/>
              </a:rPr>
              <a:t> </a:t>
            </a:r>
            <a:r>
              <a:rPr b="0" lang="ro-RO" sz="1800" spc="-1" strike="noStrike">
                <a:solidFill>
                  <a:srgbClr val="4f261e"/>
                </a:solidFill>
                <a:latin typeface="Times New Roman"/>
              </a:rPr>
              <a:t>- la închiderea documentului se alege </a:t>
            </a:r>
            <a:r>
              <a:rPr b="1" lang="en-US" sz="1800" spc="-1" strike="noStrike">
                <a:solidFill>
                  <a:srgbClr val="909082"/>
                </a:solidFill>
                <a:latin typeface="Times New Roman"/>
              </a:rPr>
              <a:t>Da</a:t>
            </a:r>
            <a:r>
              <a:rPr b="0" lang="ro-RO" sz="1800" spc="-1" strike="noStrike">
                <a:solidFill>
                  <a:srgbClr val="4f261e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61e"/>
                </a:solidFill>
                <a:latin typeface="Times New Roman"/>
              </a:rPr>
              <a:t>    </a:t>
            </a:r>
            <a:r>
              <a:rPr b="0" lang="ro-RO" sz="1800" spc="-1" strike="noStrike">
                <a:solidFill>
                  <a:srgbClr val="4f261e"/>
                </a:solidFill>
                <a:latin typeface="Times New Roman"/>
              </a:rPr>
              <a:t>pentru a salva.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4f261e"/>
                </a:solidFill>
                <a:latin typeface="Times New Roman"/>
              </a:rPr>
              <a:t>Pe ecran apare caseta de dialog </a:t>
            </a:r>
            <a:r>
              <a:rPr b="1" lang="en-US" sz="1800" spc="-1" strike="noStrike">
                <a:solidFill>
                  <a:srgbClr val="909082"/>
                </a:solidFill>
                <a:latin typeface="Times New Roman"/>
              </a:rPr>
              <a:t>Salvare Ca</a:t>
            </a:r>
            <a:r>
              <a:rPr b="0" lang="ro-RO" sz="1800" spc="-1" strike="noStrike">
                <a:solidFill>
                  <a:srgbClr val="909082"/>
                </a:solidFill>
                <a:latin typeface="Times New Roman"/>
              </a:rPr>
              <a:t> </a:t>
            </a:r>
            <a:r>
              <a:rPr b="0" lang="ro-RO" sz="1800" spc="-1" strike="noStrike">
                <a:solidFill>
                  <a:srgbClr val="4f261e"/>
                </a:solidFill>
                <a:latin typeface="Times New Roman"/>
              </a:rPr>
              <a:t>şi 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4f261e"/>
                </a:solidFill>
                <a:latin typeface="Times New Roman"/>
              </a:rPr>
              <a:t>facem paşii: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4f261e"/>
                </a:solidFill>
                <a:latin typeface="Times New Roman"/>
              </a:rPr>
              <a:t>- stabilim locul unde dorim să salvăm </a:t>
            </a:r>
            <a:r>
              <a:rPr b="1" lang="ro-RO" sz="1800" spc="-1" strike="noStrike">
                <a:solidFill>
                  <a:srgbClr val="909082"/>
                </a:solidFill>
                <a:latin typeface="Times New Roman"/>
              </a:rPr>
              <a:t>Sa</a:t>
            </a:r>
            <a:r>
              <a:rPr b="1" lang="en-US" sz="1800" spc="-1" strike="noStrike">
                <a:solidFill>
                  <a:srgbClr val="909082"/>
                </a:solidFill>
                <a:latin typeface="Times New Roman"/>
              </a:rPr>
              <a:t>lvare </a:t>
            </a:r>
            <a:r>
              <a:rPr b="1" lang="en-US" sz="1800" spc="-1" strike="noStrike">
                <a:solidFill>
                  <a:srgbClr val="909082"/>
                </a:solidFill>
                <a:latin typeface="Times New Roman"/>
                <a:ea typeface="Times New Roman"/>
              </a:rPr>
              <a:t>î</a:t>
            </a:r>
            <a:r>
              <a:rPr b="1" lang="en-US" sz="1800" spc="-1" strike="noStrike">
                <a:solidFill>
                  <a:srgbClr val="909082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4f261e"/>
                </a:solidFill>
                <a:latin typeface="Times New Roman"/>
              </a:rPr>
              <a:t>- scriem numele atribuit fişierului în caseta </a:t>
            </a:r>
            <a:r>
              <a:rPr b="1" lang="en-US" sz="1800" spc="-1" strike="noStrike">
                <a:solidFill>
                  <a:srgbClr val="909082"/>
                </a:solidFill>
                <a:latin typeface="Times New Roman"/>
              </a:rPr>
              <a:t>Nume fi</a:t>
            </a:r>
            <a:r>
              <a:rPr b="1" lang="en-US" sz="1800" spc="-1" strike="noStrike">
                <a:solidFill>
                  <a:srgbClr val="909082"/>
                </a:solidFill>
                <a:latin typeface="Times New Roman"/>
                <a:ea typeface="Times New Roman"/>
              </a:rPr>
              <a:t>şier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4f261e"/>
                </a:solidFill>
                <a:latin typeface="Times New Roman"/>
              </a:rPr>
              <a:t>- facem clic pe butonul </a:t>
            </a:r>
            <a:r>
              <a:rPr b="1" lang="ro-RO" sz="1800" spc="-1" strike="noStrike">
                <a:solidFill>
                  <a:srgbClr val="909082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909082"/>
                </a:solidFill>
                <a:latin typeface="Times New Roman"/>
              </a:rPr>
              <a:t>alvare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1516" name="Picture 20" descr="1"/>
          <p:cNvPicPr/>
          <p:nvPr/>
        </p:nvPicPr>
        <p:blipFill>
          <a:blip r:embed="rId1"/>
          <a:stretch/>
        </p:blipFill>
        <p:spPr>
          <a:xfrm>
            <a:off x="5486400" y="1795320"/>
            <a:ext cx="3044880" cy="1981440"/>
          </a:xfrm>
          <a:prstGeom prst="rect">
            <a:avLst/>
          </a:prstGeom>
          <a:ln w="0">
            <a:noFill/>
          </a:ln>
        </p:spPr>
      </p:pic>
      <p:pic>
        <p:nvPicPr>
          <p:cNvPr id="1517" name="Picture 5" descr=""/>
          <p:cNvPicPr/>
          <p:nvPr/>
        </p:nvPicPr>
        <p:blipFill>
          <a:blip r:embed="rId2"/>
          <a:stretch/>
        </p:blipFill>
        <p:spPr>
          <a:xfrm>
            <a:off x="4267080" y="3908520"/>
            <a:ext cx="473040" cy="434880"/>
          </a:xfrm>
          <a:prstGeom prst="rect">
            <a:avLst/>
          </a:prstGeom>
          <a:ln w="0">
            <a:noFill/>
          </a:ln>
        </p:spPr>
      </p:pic>
      <p:sp>
        <p:nvSpPr>
          <p:cNvPr id="1518" name="Rectangle 7"/>
          <p:cNvSpPr/>
          <p:nvPr/>
        </p:nvSpPr>
        <p:spPr>
          <a:xfrm>
            <a:off x="914400" y="16002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909082"/>
                </a:solidFill>
                <a:latin typeface="Times New Roman"/>
              </a:rPr>
              <a:t>   </a:t>
            </a:r>
            <a:r>
              <a:rPr b="1" lang="ro-RO" sz="1800" spc="-1" strike="noStrike">
                <a:solidFill>
                  <a:srgbClr val="4f261e"/>
                </a:solidFill>
                <a:latin typeface="Times New Roman"/>
              </a:rPr>
              <a:t>Deplasare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în text se face cu tastele directoare, tastele </a:t>
            </a:r>
            <a:r>
              <a:rPr b="1" lang="ro-RO" sz="1800" spc="-1" strike="noStrike">
                <a:solidFill>
                  <a:srgbClr val="909082"/>
                </a:solidFill>
                <a:latin typeface="Times New Roman"/>
              </a:rPr>
              <a:t>Home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o-RO" sz="1800" spc="-1" strike="noStrike">
                <a:solidFill>
                  <a:srgbClr val="909082"/>
                </a:solidFill>
                <a:latin typeface="Times New Roman"/>
              </a:rPr>
              <a:t>End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o-RO" sz="1800" spc="-1" strike="noStrike">
                <a:solidFill>
                  <a:srgbClr val="909082"/>
                </a:solidFill>
                <a:latin typeface="Times New Roman"/>
              </a:rPr>
              <a:t>PageUp</a:t>
            </a:r>
            <a:r>
              <a:rPr b="0" lang="ro-RO" sz="1800" spc="-1" strike="noStrike">
                <a:solidFill>
                  <a:srgbClr val="909082"/>
                </a:solidFill>
                <a:latin typeface="Times New Roman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şi </a:t>
            </a:r>
            <a:r>
              <a:rPr b="1" lang="ro-RO" sz="1800" spc="-1" strike="noStrike">
                <a:solidFill>
                  <a:srgbClr val="909082"/>
                </a:solidFill>
                <a:latin typeface="Times New Roman"/>
              </a:rPr>
              <a:t>PageDow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sau combinaţii de tas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8"/>
          <p:cNvSpPr/>
          <p:nvPr/>
        </p:nvSpPr>
        <p:spPr>
          <a:xfrm flipV="1">
            <a:off x="6401160" y="3428280"/>
            <a:ext cx="913680" cy="2744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Deschiderea unui document Word existent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1257480" y="1600200"/>
            <a:ext cx="3836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4f261e"/>
                </a:solidFill>
                <a:latin typeface="Garamond"/>
              </a:rPr>
              <a:t>Deschiderea</a:t>
            </a:r>
            <a:r>
              <a:rPr b="0" lang="ro-RO" sz="1800" spc="-1" strike="noStrike">
                <a:solidFill>
                  <a:srgbClr val="4f261e"/>
                </a:solidFill>
                <a:latin typeface="Garamond"/>
              </a:rPr>
              <a:t> unui document se poate face: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61e"/>
                </a:solidFill>
                <a:latin typeface="Garamond"/>
              </a:rPr>
              <a:t>-</a:t>
            </a:r>
            <a:r>
              <a:rPr b="0" lang="ro-RO" sz="1800" spc="-1" strike="noStrike">
                <a:solidFill>
                  <a:srgbClr val="4f261e"/>
                </a:solidFill>
                <a:latin typeface="Garamond"/>
              </a:rPr>
              <a:t>din meniul File se alege comanda </a:t>
            </a:r>
            <a:r>
              <a:rPr b="1" lang="en-US" sz="1800" spc="-1" strike="noStrike">
                <a:solidFill>
                  <a:srgbClr val="909082"/>
                </a:solidFill>
                <a:latin typeface="Garamond"/>
              </a:rPr>
              <a:t>Deschidere (Open)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61e"/>
                </a:solidFill>
                <a:latin typeface="Garamond"/>
              </a:rPr>
              <a:t>-</a:t>
            </a:r>
            <a:r>
              <a:rPr b="0" lang="ro-RO" sz="1800" spc="-1" strike="noStrike">
                <a:solidFill>
                  <a:srgbClr val="4f261e"/>
                </a:solidFill>
                <a:latin typeface="Garamond"/>
              </a:rPr>
              <a:t>se apasă butonul din bara de instrumente standard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4f261e"/>
                </a:solidFill>
                <a:latin typeface="Garamond"/>
              </a:rPr>
              <a:t>- se apasă simultan tastele </a:t>
            </a:r>
            <a:r>
              <a:rPr b="1" lang="ro-RO" sz="1800" spc="-1" strike="noStrike">
                <a:solidFill>
                  <a:srgbClr val="909082"/>
                </a:solidFill>
                <a:latin typeface="Garamond"/>
              </a:rPr>
              <a:t>Ctrl</a:t>
            </a:r>
            <a:r>
              <a:rPr b="0" lang="ro-RO" sz="1800" spc="-1" strike="noStrike">
                <a:solidFill>
                  <a:srgbClr val="4f261e"/>
                </a:solidFill>
                <a:latin typeface="Garamond"/>
              </a:rPr>
              <a:t> şi </a:t>
            </a:r>
            <a:r>
              <a:rPr b="1" lang="ro-RO" sz="1800" spc="-1" strike="noStrike">
                <a:solidFill>
                  <a:srgbClr val="909082"/>
                </a:solidFill>
                <a:latin typeface="Garamond"/>
              </a:rPr>
              <a:t>O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4f261e"/>
                </a:solidFill>
                <a:latin typeface="Garamond"/>
              </a:rPr>
              <a:t>Din caseta de dialog </a:t>
            </a:r>
            <a:r>
              <a:rPr b="1" lang="en-US" sz="1800" spc="-1" strike="noStrike">
                <a:solidFill>
                  <a:srgbClr val="909082"/>
                </a:solidFill>
                <a:latin typeface="Garamond"/>
              </a:rPr>
              <a:t>Deschidere</a:t>
            </a:r>
            <a:r>
              <a:rPr b="0" lang="ro-RO" sz="1800" spc="-1" strike="noStrike">
                <a:solidFill>
                  <a:srgbClr val="4f261e"/>
                </a:solidFill>
                <a:latin typeface="Garamond"/>
              </a:rPr>
              <a:t> care rezultă se stabileşte: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4f261e"/>
                </a:solidFill>
                <a:latin typeface="Garamond"/>
              </a:rPr>
              <a:t> </a:t>
            </a:r>
            <a:r>
              <a:rPr b="0" lang="ro-RO" sz="1800" spc="-1" strike="noStrike">
                <a:solidFill>
                  <a:srgbClr val="4f261e"/>
                </a:solidFill>
                <a:latin typeface="Garamond"/>
              </a:rPr>
              <a:t>- locul unde este fişierul </a:t>
            </a:r>
            <a:r>
              <a:rPr b="1" lang="en-US" sz="1800" spc="-1" strike="noStrike">
                <a:solidFill>
                  <a:srgbClr val="909082"/>
                </a:solidFill>
                <a:latin typeface="Garamond"/>
              </a:rPr>
              <a:t>Privire </a:t>
            </a:r>
            <a:r>
              <a:rPr b="1" lang="en-US" sz="1800" spc="-1" strike="noStrike">
                <a:solidFill>
                  <a:srgbClr val="909082"/>
                </a:solidFill>
                <a:latin typeface="Garamond"/>
                <a:ea typeface="Arial"/>
              </a:rPr>
              <a:t>î</a:t>
            </a:r>
            <a:r>
              <a:rPr b="1" lang="en-US" sz="1800" spc="-1" strike="noStrike">
                <a:solidFill>
                  <a:srgbClr val="909082"/>
                </a:solidFill>
                <a:latin typeface="Garamond"/>
              </a:rPr>
              <a:t>n</a:t>
            </a:r>
            <a:r>
              <a:rPr b="1" lang="ro-RO" sz="1800" spc="-1" strike="noStrike">
                <a:solidFill>
                  <a:srgbClr val="909082"/>
                </a:solidFill>
                <a:latin typeface="Garamond"/>
              </a:rPr>
              <a:t>,</a:t>
            </a:r>
            <a:r>
              <a:rPr b="0" lang="ro-RO" sz="1800" spc="-1" strike="noStrike">
                <a:solidFill>
                  <a:srgbClr val="909082"/>
                </a:solidFill>
                <a:latin typeface="Garamond"/>
              </a:rPr>
              <a:t> </a:t>
            </a:r>
            <a:r>
              <a:rPr b="0" lang="ro-RO" sz="1800" spc="-1" strike="noStrike">
                <a:solidFill>
                  <a:srgbClr val="4f261e"/>
                </a:solidFill>
                <a:latin typeface="Garamond"/>
              </a:rPr>
              <a:t>alegem numele din listă sau se scrie în caseta </a:t>
            </a:r>
            <a:r>
              <a:rPr b="1" lang="en-US" sz="1800" spc="-1" strike="noStrike">
                <a:solidFill>
                  <a:srgbClr val="909082"/>
                </a:solidFill>
                <a:latin typeface="Garamond"/>
              </a:rPr>
              <a:t>Nume fi</a:t>
            </a:r>
            <a:r>
              <a:rPr b="1" lang="en-US" sz="1800" spc="-1" strike="noStrike">
                <a:solidFill>
                  <a:srgbClr val="909082"/>
                </a:solidFill>
                <a:latin typeface="Garamond"/>
                <a:ea typeface="Arial"/>
              </a:rPr>
              <a:t>şier</a:t>
            </a:r>
            <a:r>
              <a:rPr b="0" lang="ro-RO" sz="1800" spc="-1" strike="noStrike">
                <a:solidFill>
                  <a:srgbClr val="909082"/>
                </a:solidFill>
                <a:latin typeface="Garamond"/>
              </a:rPr>
              <a:t>, </a:t>
            </a:r>
            <a:r>
              <a:rPr b="0" lang="ro-RO" sz="1800" spc="-1" strike="noStrike">
                <a:solidFill>
                  <a:srgbClr val="4f261e"/>
                </a:solidFill>
                <a:latin typeface="Garamond"/>
              </a:rPr>
              <a:t> se apasă butonul </a:t>
            </a:r>
            <a:r>
              <a:rPr b="1" lang="en-US" sz="1800" spc="-1" strike="noStrike">
                <a:solidFill>
                  <a:srgbClr val="909082"/>
                </a:solidFill>
                <a:latin typeface="Garamond"/>
              </a:rPr>
              <a:t>Deschidere</a:t>
            </a: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1522" name="Picture 7" descr=""/>
          <p:cNvPicPr/>
          <p:nvPr/>
        </p:nvPicPr>
        <p:blipFill>
          <a:blip r:embed="rId1"/>
          <a:stretch/>
        </p:blipFill>
        <p:spPr>
          <a:xfrm>
            <a:off x="4076640" y="2895480"/>
            <a:ext cx="503280" cy="482760"/>
          </a:xfrm>
          <a:prstGeom prst="rect">
            <a:avLst/>
          </a:prstGeom>
          <a:ln w="0">
            <a:noFill/>
          </a:ln>
        </p:spPr>
      </p:pic>
      <p:pic>
        <p:nvPicPr>
          <p:cNvPr id="1523" name="Picture 8" descr="2"/>
          <p:cNvPicPr/>
          <p:nvPr/>
        </p:nvPicPr>
        <p:blipFill>
          <a:blip r:embed="rId2"/>
          <a:stretch/>
        </p:blipFill>
        <p:spPr>
          <a:xfrm>
            <a:off x="5486400" y="25146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104840" y="2514240"/>
            <a:ext cx="746784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261e"/>
                </a:solidFill>
                <a:latin typeface="Thickhead"/>
              </a:rPr>
              <a:t>Perseverand vei ajunge la rezult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Despre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Prof. L. Tufescu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f261e"/>
                </a:solidFill>
                <a:latin typeface="Garamond"/>
              </a:rPr>
              <a:t>Grup Scolar Tehnic de Transporturi Cai Ferate Iasi</a:t>
            </a: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Gradul didactic II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1-04T17:05:54Z</dcterms:created>
  <dc:creator>Odina Julia</dc:creator>
  <dc:description/>
  <dc:language>en-US</dc:language>
  <cp:lastModifiedBy>Lacra</cp:lastModifiedBy>
  <dcterms:modified xsi:type="dcterms:W3CDTF">2010-05-17T23:12:51Z</dcterms:modified>
  <cp:revision>131</cp:revision>
  <dc:subject/>
  <dc:title>Word</dc:title>
</cp:coreProperties>
</file>